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E68-F492-409E-BC0D-B02E433E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9C9-FF1C-4114-93ED-A113A7C5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02B-BF11-46DA-873F-15CEF967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4D3-8B7A-47A1-9330-3795C401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AEB-C5D4-4058-B080-7BCDEC3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A46-801E-4B2D-AB1E-E349F6E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BAC-63D5-41C5-84A6-AAA6562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5B1-891F-46BE-AB43-3CD6699C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EC2-1EFF-4B65-AB82-8D6C598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23A-C825-49EB-AF80-FEAA07E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496-1313-4851-9D0D-9F6C9A65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A36-1581-4F82-95D0-6D01A0E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9C4A-EE59-4206-9D2C-8CC696C9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31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E Compon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968640"/>
            <a:ext cx="3637080" cy="2538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1240" y="3924360"/>
            <a:ext cx="1603440" cy="27604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38400" y="4027320"/>
            <a:ext cx="1428840" cy="20196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924360" y="3321000"/>
            <a:ext cx="32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19440" y="30798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5880" y="839880"/>
            <a:ext cx="4819680" cy="2481120"/>
          </a:xfrm>
          <a:prstGeom prst="cube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280120" y="3171600"/>
            <a:ext cx="915840" cy="79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51040" y="4724280"/>
            <a:ext cx="844560" cy="312840"/>
            <a:chOff x="851040" y="4724280"/>
            <a:chExt cx="844560" cy="312840"/>
          </a:xfrm>
        </p:grpSpPr>
        <p:sp>
          <p:nvSpPr>
            <p:cNvPr id="50" name=""/>
            <p:cNvSpPr/>
            <p:nvPr/>
          </p:nvSpPr>
          <p:spPr>
            <a:xfrm>
              <a:off x="960840" y="4724280"/>
              <a:ext cx="7128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60840" y="4724280"/>
              <a:ext cx="71280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1040" y="4764240"/>
              <a:ext cx="219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1040" y="4764240"/>
              <a:ext cx="219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1040" y="4919760"/>
              <a:ext cx="21924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1040" y="4919760"/>
              <a:ext cx="21924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8680" y="4836960"/>
              <a:ext cx="556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51040" y="5237280"/>
            <a:ext cx="826200" cy="312480"/>
            <a:chOff x="851040" y="5237280"/>
            <a:chExt cx="826200" cy="312480"/>
          </a:xfrm>
        </p:grpSpPr>
        <p:sp>
          <p:nvSpPr>
            <p:cNvPr id="58" name=""/>
            <p:cNvSpPr/>
            <p:nvPr/>
          </p:nvSpPr>
          <p:spPr>
            <a:xfrm>
              <a:off x="960480" y="5237280"/>
              <a:ext cx="6980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60480" y="5237280"/>
              <a:ext cx="6980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1040" y="5275080"/>
              <a:ext cx="2203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1040" y="5275080"/>
              <a:ext cx="22032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1040" y="5432400"/>
              <a:ext cx="220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1040" y="5432400"/>
              <a:ext cx="220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880" y="5346720"/>
              <a:ext cx="54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talog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19080" y="5713560"/>
            <a:ext cx="776880" cy="314280"/>
            <a:chOff x="919080" y="5713560"/>
            <a:chExt cx="776880" cy="314280"/>
          </a:xfrm>
        </p:grpSpPr>
        <p:sp>
          <p:nvSpPr>
            <p:cNvPr id="66" name=""/>
            <p:cNvSpPr/>
            <p:nvPr/>
          </p:nvSpPr>
          <p:spPr>
            <a:xfrm>
              <a:off x="1029960" y="5713560"/>
              <a:ext cx="6462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960" y="5713560"/>
              <a:ext cx="64620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9080" y="575352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9080" y="575352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9080" y="5909040"/>
              <a:ext cx="2206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9080" y="5909040"/>
              <a:ext cx="2206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10680" y="5823360"/>
              <a:ext cx="48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gest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13000" y="4929120"/>
            <a:ext cx="594000" cy="312840"/>
            <a:chOff x="3213000" y="4929120"/>
            <a:chExt cx="594000" cy="312840"/>
          </a:xfrm>
        </p:grpSpPr>
        <p:sp>
          <p:nvSpPr>
            <p:cNvPr id="74" name=""/>
            <p:cNvSpPr/>
            <p:nvPr/>
          </p:nvSpPr>
          <p:spPr>
            <a:xfrm>
              <a:off x="3322800" y="4929120"/>
              <a:ext cx="4842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22800" y="4929120"/>
              <a:ext cx="48420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3000" y="4967280"/>
              <a:ext cx="21924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13000" y="4967280"/>
              <a:ext cx="21924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3000" y="5124240"/>
              <a:ext cx="219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13000" y="5124240"/>
              <a:ext cx="219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7040" y="5041800"/>
              <a:ext cx="30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35240" y="1855800"/>
            <a:ext cx="688680" cy="312480"/>
            <a:chOff x="2235240" y="1855800"/>
            <a:chExt cx="688680" cy="312480"/>
          </a:xfrm>
        </p:grpSpPr>
        <p:sp>
          <p:nvSpPr>
            <p:cNvPr id="82" name=""/>
            <p:cNvSpPr/>
            <p:nvPr/>
          </p:nvSpPr>
          <p:spPr>
            <a:xfrm>
              <a:off x="2344680" y="1855800"/>
              <a:ext cx="57312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44680" y="1855800"/>
              <a:ext cx="57312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5240" y="1895400"/>
              <a:ext cx="2188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35240" y="1895400"/>
              <a:ext cx="2188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5240" y="2050920"/>
              <a:ext cx="21888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5240" y="2050920"/>
              <a:ext cx="21888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9280" y="1966680"/>
              <a:ext cx="404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ome P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11720" y="5000760"/>
            <a:ext cx="671760" cy="312480"/>
            <a:chOff x="5211720" y="5000760"/>
            <a:chExt cx="671760" cy="312480"/>
          </a:xfrm>
        </p:grpSpPr>
        <p:sp>
          <p:nvSpPr>
            <p:cNvPr id="90" name=""/>
            <p:cNvSpPr/>
            <p:nvPr/>
          </p:nvSpPr>
          <p:spPr>
            <a:xfrm>
              <a:off x="5321160" y="5000760"/>
              <a:ext cx="557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21160" y="5000760"/>
              <a:ext cx="557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1720" y="5040000"/>
              <a:ext cx="218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11720" y="5040000"/>
              <a:ext cx="21888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1720" y="519552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11720" y="519552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95760" y="5114520"/>
              <a:ext cx="38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018200" y="4957920"/>
            <a:ext cx="878040" cy="314280"/>
            <a:chOff x="7018200" y="4957920"/>
            <a:chExt cx="878040" cy="314280"/>
          </a:xfrm>
        </p:grpSpPr>
        <p:sp>
          <p:nvSpPr>
            <p:cNvPr id="98" name=""/>
            <p:cNvSpPr/>
            <p:nvPr/>
          </p:nvSpPr>
          <p:spPr>
            <a:xfrm>
              <a:off x="7129440" y="4957920"/>
              <a:ext cx="74304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29440" y="4957920"/>
              <a:ext cx="74304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8200" y="499752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8200" y="499752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18200" y="515484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8200" y="515484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4040" y="507240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ublish Metada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43760" y="5635800"/>
            <a:ext cx="804240" cy="312480"/>
            <a:chOff x="6143760" y="5635800"/>
            <a:chExt cx="804240" cy="312480"/>
          </a:xfrm>
        </p:grpSpPr>
        <p:sp>
          <p:nvSpPr>
            <p:cNvPr id="106" name=""/>
            <p:cNvSpPr/>
            <p:nvPr/>
          </p:nvSpPr>
          <p:spPr>
            <a:xfrm>
              <a:off x="6252840" y="5635800"/>
              <a:ext cx="67752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52840" y="5635800"/>
              <a:ext cx="67752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43760" y="5673600"/>
              <a:ext cx="218520" cy="7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43760" y="5673600"/>
              <a:ext cx="218520" cy="78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43760" y="5830560"/>
              <a:ext cx="21852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3760" y="5830560"/>
              <a:ext cx="21852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29240" y="574668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ta Discove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86520" y="5635800"/>
            <a:ext cx="872640" cy="312480"/>
            <a:chOff x="5186520" y="5635800"/>
            <a:chExt cx="872640" cy="312480"/>
          </a:xfrm>
        </p:grpSpPr>
        <p:sp>
          <p:nvSpPr>
            <p:cNvPr id="114" name=""/>
            <p:cNvSpPr/>
            <p:nvPr/>
          </p:nvSpPr>
          <p:spPr>
            <a:xfrm>
              <a:off x="5297400" y="5635800"/>
              <a:ext cx="7617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7400" y="5635800"/>
              <a:ext cx="7617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6520" y="5675040"/>
              <a:ext cx="220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6520" y="5675040"/>
              <a:ext cx="220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6520" y="5830920"/>
              <a:ext cx="220320" cy="7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6520" y="5830920"/>
              <a:ext cx="220320" cy="78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0000" y="5746680"/>
              <a:ext cx="404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 View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08240" y="2328840"/>
            <a:ext cx="803520" cy="314280"/>
            <a:chOff x="2208240" y="2328840"/>
            <a:chExt cx="803520" cy="314280"/>
          </a:xfrm>
        </p:grpSpPr>
        <p:sp>
          <p:nvSpPr>
            <p:cNvPr id="122" name=""/>
            <p:cNvSpPr/>
            <p:nvPr/>
          </p:nvSpPr>
          <p:spPr>
            <a:xfrm>
              <a:off x="2319120" y="2328840"/>
              <a:ext cx="68112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19120" y="2328840"/>
              <a:ext cx="68112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8240" y="236844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8240" y="236844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8240" y="252540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8240" y="252540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88320" y="2438280"/>
              <a:ext cx="52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rsonaliz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14400" y="6215040"/>
            <a:ext cx="771480" cy="314280"/>
            <a:chOff x="914400" y="6215040"/>
            <a:chExt cx="771480" cy="314280"/>
          </a:xfrm>
        </p:grpSpPr>
        <p:sp>
          <p:nvSpPr>
            <p:cNvPr id="130" name=""/>
            <p:cNvSpPr/>
            <p:nvPr/>
          </p:nvSpPr>
          <p:spPr>
            <a:xfrm>
              <a:off x="1025280" y="6215040"/>
              <a:ext cx="6462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5280" y="6215040"/>
              <a:ext cx="646200" cy="3142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6255000"/>
              <a:ext cx="220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6255000"/>
              <a:ext cx="2206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6410520"/>
              <a:ext cx="2206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6410520"/>
              <a:ext cx="2206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4280" y="6324840"/>
              <a:ext cx="471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vent 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579840" y="1841400"/>
            <a:ext cx="916920" cy="312480"/>
            <a:chOff x="3579840" y="1841400"/>
            <a:chExt cx="916920" cy="312480"/>
          </a:xfrm>
        </p:grpSpPr>
        <p:sp>
          <p:nvSpPr>
            <p:cNvPr id="138" name=""/>
            <p:cNvSpPr/>
            <p:nvPr/>
          </p:nvSpPr>
          <p:spPr>
            <a:xfrm>
              <a:off x="3712320" y="1841400"/>
              <a:ext cx="6944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12320" y="1841400"/>
              <a:ext cx="6944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9840" y="1881000"/>
              <a:ext cx="26496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9840" y="1881000"/>
              <a:ext cx="26496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79840" y="2036520"/>
              <a:ext cx="2649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79840" y="2036520"/>
              <a:ext cx="26496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8200" y="1952280"/>
              <a:ext cx="6285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IE Administr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565440" y="2305080"/>
            <a:ext cx="904320" cy="312480"/>
            <a:chOff x="3565440" y="2305080"/>
            <a:chExt cx="904320" cy="312480"/>
          </a:xfrm>
        </p:grpSpPr>
        <p:sp>
          <p:nvSpPr>
            <p:cNvPr id="146" name=""/>
            <p:cNvSpPr/>
            <p:nvPr/>
          </p:nvSpPr>
          <p:spPr>
            <a:xfrm>
              <a:off x="3697920" y="2305080"/>
              <a:ext cx="6951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97920" y="2305080"/>
              <a:ext cx="6951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65440" y="2344680"/>
              <a:ext cx="265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5440" y="2344680"/>
              <a:ext cx="26532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5440" y="2500200"/>
              <a:ext cx="2653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5440" y="2500200"/>
              <a:ext cx="26532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360" y="2415960"/>
              <a:ext cx="590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curity Ser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863960" y="2741760"/>
            <a:ext cx="851040" cy="312480"/>
            <a:chOff x="4863960" y="2741760"/>
            <a:chExt cx="851040" cy="312480"/>
          </a:xfrm>
        </p:grpSpPr>
        <p:sp>
          <p:nvSpPr>
            <p:cNvPr id="154" name=""/>
            <p:cNvSpPr/>
            <p:nvPr/>
          </p:nvSpPr>
          <p:spPr>
            <a:xfrm>
              <a:off x="4996080" y="2741760"/>
              <a:ext cx="69336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6080" y="2741760"/>
              <a:ext cx="69336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63960" y="2781360"/>
              <a:ext cx="2646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3960" y="2781360"/>
              <a:ext cx="26460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3960" y="2936880"/>
              <a:ext cx="2646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63960" y="2936880"/>
              <a:ext cx="26460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5040" y="2852640"/>
              <a:ext cx="489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ser Direct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565440" y="2774880"/>
            <a:ext cx="946440" cy="312480"/>
            <a:chOff x="3565440" y="2774880"/>
            <a:chExt cx="946440" cy="312480"/>
          </a:xfrm>
        </p:grpSpPr>
        <p:sp>
          <p:nvSpPr>
            <p:cNvPr id="162" name=""/>
            <p:cNvSpPr/>
            <p:nvPr/>
          </p:nvSpPr>
          <p:spPr>
            <a:xfrm>
              <a:off x="3697560" y="2774880"/>
              <a:ext cx="69264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7560" y="2774880"/>
              <a:ext cx="69264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5440" y="2814480"/>
              <a:ext cx="264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5440" y="2814480"/>
              <a:ext cx="264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5440" y="2970000"/>
              <a:ext cx="26424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65440" y="2970000"/>
              <a:ext cx="26424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46600" y="2885760"/>
              <a:ext cx="66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vent Manag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98880" y="1835280"/>
            <a:ext cx="834480" cy="312480"/>
            <a:chOff x="4898880" y="1835280"/>
            <a:chExt cx="834480" cy="312480"/>
          </a:xfrm>
        </p:grpSpPr>
        <p:sp>
          <p:nvSpPr>
            <p:cNvPr id="170" name=""/>
            <p:cNvSpPr/>
            <p:nvPr/>
          </p:nvSpPr>
          <p:spPr>
            <a:xfrm>
              <a:off x="5031000" y="1835280"/>
              <a:ext cx="69300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31000" y="1835280"/>
              <a:ext cx="69300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98880" y="1874880"/>
              <a:ext cx="2646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98880" y="1874880"/>
              <a:ext cx="26460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98880" y="2030400"/>
              <a:ext cx="2646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8880" y="2030400"/>
              <a:ext cx="26460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3000" y="1946160"/>
              <a:ext cx="4503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asic Sear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88080" y="2282760"/>
            <a:ext cx="837000" cy="312480"/>
            <a:chOff x="4888080" y="2282760"/>
            <a:chExt cx="837000" cy="312480"/>
          </a:xfrm>
        </p:grpSpPr>
        <p:sp>
          <p:nvSpPr>
            <p:cNvPr id="178" name=""/>
            <p:cNvSpPr/>
            <p:nvPr/>
          </p:nvSpPr>
          <p:spPr>
            <a:xfrm>
              <a:off x="5020200" y="2282760"/>
              <a:ext cx="692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0200" y="2282760"/>
              <a:ext cx="692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8080" y="2322360"/>
              <a:ext cx="264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88080" y="2322360"/>
              <a:ext cx="26424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8080" y="2477880"/>
              <a:ext cx="26424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88080" y="2477880"/>
              <a:ext cx="26424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89840" y="2393640"/>
              <a:ext cx="43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vider Mg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3000" y="4989600"/>
            <a:ext cx="735840" cy="312480"/>
            <a:chOff x="6093000" y="4989600"/>
            <a:chExt cx="735840" cy="312480"/>
          </a:xfrm>
        </p:grpSpPr>
        <p:sp>
          <p:nvSpPr>
            <p:cNvPr id="186" name=""/>
            <p:cNvSpPr/>
            <p:nvPr/>
          </p:nvSpPr>
          <p:spPr>
            <a:xfrm>
              <a:off x="6202440" y="4989600"/>
              <a:ext cx="5572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02440" y="4989600"/>
              <a:ext cx="5572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3000" y="5028840"/>
              <a:ext cx="218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3000" y="5028840"/>
              <a:ext cx="218880" cy="774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3000" y="518436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3000" y="518436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5200" y="510336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y Geograph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184480" y="2790720"/>
            <a:ext cx="828720" cy="312480"/>
            <a:chOff x="2184480" y="2790720"/>
            <a:chExt cx="828720" cy="312480"/>
          </a:xfrm>
        </p:grpSpPr>
        <p:sp>
          <p:nvSpPr>
            <p:cNvPr id="194" name=""/>
            <p:cNvSpPr/>
            <p:nvPr/>
          </p:nvSpPr>
          <p:spPr>
            <a:xfrm>
              <a:off x="2316960" y="2790720"/>
              <a:ext cx="6940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16960" y="2790720"/>
              <a:ext cx="694080" cy="31248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4480" y="2830320"/>
              <a:ext cx="26496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4480" y="2830320"/>
              <a:ext cx="26496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4480" y="2985840"/>
              <a:ext cx="2649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4480" y="2985840"/>
              <a:ext cx="264960" cy="79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87320" y="2901600"/>
              <a:ext cx="42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sults Too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067520" y="5549760"/>
            <a:ext cx="787320" cy="312840"/>
            <a:chOff x="7067520" y="5549760"/>
            <a:chExt cx="787320" cy="312840"/>
          </a:xfrm>
        </p:grpSpPr>
        <p:sp>
          <p:nvSpPr>
            <p:cNvPr id="202" name=""/>
            <p:cNvSpPr/>
            <p:nvPr/>
          </p:nvSpPr>
          <p:spPr>
            <a:xfrm>
              <a:off x="7176960" y="5549760"/>
              <a:ext cx="67788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6960" y="5549760"/>
              <a:ext cx="677880" cy="3128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67520" y="5587920"/>
              <a:ext cx="2188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7520" y="5587920"/>
              <a:ext cx="218880" cy="792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520" y="5744880"/>
              <a:ext cx="2188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67520" y="5744880"/>
              <a:ext cx="218880" cy="777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5040" y="5661000"/>
              <a:ext cx="46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 Ser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02:24Z</dcterms:created>
  <dc:creator>mburnett</dc:creator>
  <dc:description/>
  <dc:language>en-US</dc:language>
  <cp:lastModifiedBy>mburnett</cp:lastModifiedBy>
  <dcterms:modified xsi:type="dcterms:W3CDTF">2006-02-28T18:13:20Z</dcterms:modified>
  <cp:revision>4</cp:revision>
  <dc:subject/>
  <dc:title>Slide 1</dc:title>
</cp:coreProperties>
</file>